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260-468D-4197-9AEA-5913188C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6BB-1EF7-4F99-A6A6-8EAA63A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5D5-E4C6-44A6-AD28-5E6EF0B4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1D4-FFC8-4D61-85BF-7B77EEAB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1B0-9148-4403-B40E-99F6722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21A-16B7-4DF1-BFA5-65CEA9D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18-1ADB-4655-9636-80E4E43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B50-F0D9-49D6-BF27-5C2DF50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447-01AA-447E-B505-269584F0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946-99CD-4452-B8C9-8D9F3ED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F4B-C487-494D-A423-07949AF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596-D3BE-4F2E-8DE8-B192C25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7E4-BB04-44C3-9862-F45B80C5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1600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e Erd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51460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209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mansi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590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muy grande y mod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s una coc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480" y="20937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600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1600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s,nueva,lujoso,estup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omed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23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come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9810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981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a comedor es muy lujoso y bon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s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752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a sala es muy grande y incred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00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bonito y 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295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2952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 cuar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676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cuarto es muy bonito y impresion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at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p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676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676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nueva, magnifica, 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d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12952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600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,nueva,magnifica,y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a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1447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gar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90512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lujos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fabul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50Z</dcterms:created>
  <dc:creator>erdeltjak</dc:creator>
  <dc:description/>
  <dc:language>en-US</dc:language>
  <cp:lastModifiedBy>erdeltjak</cp:lastModifiedBy>
  <dcterms:modified xsi:type="dcterms:W3CDTF">2013-04-11T18:12:00Z</dcterms:modified>
  <cp:revision>6</cp:revision>
  <dc:subject/>
  <dc:title>La Casa</dc:title>
</cp:coreProperties>
</file>